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13AB-E08F-4260-A563-DF6A734F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E722-D212-4142-A51F-E08F7377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AA0F-1E0F-4855-9C68-769D929BC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C955-89D9-4E9E-A1C9-06D11E13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0B38-8C7E-49D1-82D7-97920D54A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41A5-6E23-4088-A337-F95EE6C4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FC85-5DF4-40EA-A642-7557C006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B959-0876-4F2F-B9BD-2011990C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7999-E171-4C2A-8710-6D547DFF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FD8C-B14D-4653-92AB-E2E10AA5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7664-35DD-498A-A6FA-C108891E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30EC-F65F-474C-B0F9-F47B702C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03A6-9A47-470F-ABF9-F5A06150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5DC3-B6F6-4BD2-90C5-E1AB0B6C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370E-3DE7-4C21-BAE5-878326F7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D07E-A06B-4401-97B2-A111F894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8E32-499D-48F9-A46A-D3085537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E392-4E4B-40DD-8506-F655AFB1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36DE-EDAF-484C-A7D9-39095399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F5A2-4C33-4DE7-85C9-D5A2E9D6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45720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350A-EB86-45C0-A0D0-570FAE54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D8F0-27D9-4A47-AEE1-E9899900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89E8-BFBF-41B3-8313-42E22D06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8EF2-C011-4065-809A-7C94E57B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6891-698B-4714-842F-CD01E372C4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304920" y="1314360"/>
            <a:ext cx="8839080" cy="41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8380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6C46-4D39-4560-8915-88F2145714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839080" cy="412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320" y="5334120"/>
            <a:ext cx="9067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pt-BR" sz="2000" spc="-1" strike="noStrike">
                <a:solidFill>
                  <a:srgbClr val="000000"/>
                </a:solidFill>
                <a:latin typeface="Garamond"/>
              </a:rPr>
              <a:t>UNIJUÍ – UNIVERSIDADE REGIONAL DO NOROESTE DO ESTADO DO RIO GRANDE DO SUL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Garamond"/>
              </a:rPr>
              <a:t>DeFEM – DEPARTAMENTO DE FÍSICA, ESTATÍSTICA E MATEMÁTICA</a:t>
            </a:r>
            <a:br>
              <a:rPr sz="2000"/>
            </a:br>
            <a:br>
              <a:rPr sz="2000"/>
            </a:br>
            <a:r>
              <a:rPr b="1" lang="pt-BR" sz="3600" spc="-1" strike="noStrike">
                <a:solidFill>
                  <a:srgbClr val="000000"/>
                </a:solidFill>
                <a:latin typeface="Garamond"/>
              </a:rPr>
              <a:t>O “XIS BURGUER” COMO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Garamond"/>
              </a:rPr>
              <a:t>OBJETO DE ESTUDO PARA</a:t>
            </a:r>
            <a:br>
              <a:rPr sz="3600"/>
            </a:br>
            <a:r>
              <a:rPr b="1" lang="pt-BR" sz="3600" spc="-1" strike="noStrike">
                <a:solidFill>
                  <a:srgbClr val="000000"/>
                </a:solidFill>
                <a:latin typeface="Garamond"/>
              </a:rPr>
              <a:t>MODELAGEM MATEMÁTICA</a:t>
            </a:r>
            <a:br>
              <a:rPr sz="3600"/>
            </a:br>
            <a:br>
              <a:rPr sz="3600"/>
            </a:br>
            <a:r>
              <a:rPr b="1" lang="pt-BR" sz="2000" spc="-1" strike="noStrike">
                <a:solidFill>
                  <a:srgbClr val="000000"/>
                </a:solidFill>
                <a:latin typeface="Garamond"/>
              </a:rPr>
              <a:t>ÁDIA MACHADO DA SILVA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Garamond"/>
              </a:rPr>
              <a:t>GRACIELE GOLDSCHMIDT  DE ÁVILA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Garamond"/>
              </a:rPr>
              <a:t>JOSÉ APARECIDO DA SILVA FERNANDES</a:t>
            </a:r>
            <a:br>
              <a:rPr sz="2000"/>
            </a:b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Garamond"/>
              </a:rPr>
              <a:t>Disciplina: MODELAGEM MATEMÁTICA I</a:t>
            </a:r>
            <a:br>
              <a:rPr sz="2000"/>
            </a:b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Garamond"/>
              </a:rPr>
              <a:t>Prof. PEDRO AUGUSTO PEREIRA BORGES</a:t>
            </a:r>
            <a:r>
              <a:rPr b="1" lang="pt-BR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981080" y="3962160"/>
            <a:ext cx="6400800" cy="177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99cc00"/>
                </a:solidFill>
                <a:latin typeface="Symbol"/>
                <a:ea typeface="Symbol"/>
              </a:rPr>
              <a:t></a:t>
            </a:r>
            <a:r>
              <a:rPr b="0" lang="pt-BR" sz="40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 </a:t>
            </a:r>
            <a:r>
              <a:rPr b="0" lang="pt-BR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    </a:t>
            </a:r>
            <a:r>
              <a:rPr b="1" lang="pt-BR" sz="2400" spc="-1" strike="noStrike">
                <a:solidFill>
                  <a:srgbClr val="99cc00"/>
                </a:solidFill>
                <a:latin typeface="Garamond"/>
                <a:ea typeface="Arial"/>
              </a:rPr>
              <a:t>Tabela 2: </a:t>
            </a:r>
            <a:r>
              <a:rPr b="0" lang="pt-BR" sz="2400" spc="-1" strike="noStrike">
                <a:solidFill>
                  <a:srgbClr val="99cc00"/>
                </a:solidFill>
                <a:latin typeface="Garamond"/>
                <a:ea typeface="Arial"/>
              </a:rPr>
              <a:t>Relação do peso/preço ( g/R$ ) dos ingredientes de cada  </a:t>
            </a:r>
            <a:br>
              <a:rPr sz="2400"/>
            </a:br>
            <a:r>
              <a:rPr b="1" lang="pt-BR" sz="2400" spc="-1" strike="noStrike">
                <a:solidFill>
                  <a:srgbClr val="99cc00"/>
                </a:solidFill>
                <a:latin typeface="Garamond"/>
                <a:ea typeface="Arial"/>
              </a:rPr>
              <a:t>                     </a:t>
            </a:r>
            <a:r>
              <a:rPr b="0" lang="pt-BR" sz="2400" spc="-1" strike="noStrike">
                <a:solidFill>
                  <a:srgbClr val="99cc00"/>
                </a:solidFill>
                <a:latin typeface="Garamond"/>
                <a:ea typeface="Arial"/>
              </a:rPr>
              <a:t>Produto das duas referidas lanchonetes de Ijuí-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219320" y="1600200"/>
          <a:ext cx="6705360" cy="445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70536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90720" y="1828800"/>
          <a:ext cx="7010280" cy="422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701028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143000" y="1828800"/>
          <a:ext cx="6781680" cy="422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28800"/>
                    <a:ext cx="678168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 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pt-B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III-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pt-B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Modelo para o Cálculo de Lucro de Cada Xis das Duas Lanchonetes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2437920"/>
            <a:ext cx="8178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Qual é o lucro para cada Xis nas lanchonetes em R$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Garamond"/>
              </a:rPr>
              <a:t>                              </a:t>
            </a:r>
            <a:r>
              <a:rPr b="1" lang="pt-BR" sz="2800" spc="-1" strike="noStrike">
                <a:solidFill>
                  <a:srgbClr val="000000"/>
                </a:solidFill>
                <a:latin typeface="Garamond"/>
              </a:rPr>
              <a:t>L=  R – D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r>
              <a:rPr b="1" lang="pt-B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OBS:</a:t>
            </a:r>
            <a:r>
              <a:rPr b="0" lang="pt-B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Com os dados obtidos na tabela 1, substitui-se os valores no  modelo acima, sabendo que:</a:t>
            </a:r>
            <a:r>
              <a:rPr b="1" lang="pt-B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                            </a:t>
            </a:r>
            <a:r>
              <a:rPr b="1" lang="pt-B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                           </a:t>
            </a:r>
            <a:r>
              <a:rPr b="1" lang="pt-B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L = R – 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                           </a:t>
            </a:r>
            <a:r>
              <a:rPr b="1" lang="pt-B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L = 3,50 – 1,9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                           </a:t>
            </a:r>
            <a:r>
              <a:rPr b="1" lang="pt-BR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L = 1,5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1004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62120" y="4648320"/>
                <a:ext cx="2361960" cy="17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 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Lucro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 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Receita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 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Despesas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51920" y="457200"/>
            <a:ext cx="8915400" cy="56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al é o lucro para cada xis nas lanchonetes em percentagem (%)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 os dados obtidos na tabela 1, substitui-se os valores no modelo acima, sabendo 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361944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1944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09480" y="3276720"/>
                <a:ext cx="3505320" cy="16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 % 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Lucro em Percentagem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 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Receita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 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Despesa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 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Custo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298620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455920" y="5543640"/>
                <a:ext cx="16398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79,49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39099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362320" y="1447920"/>
                <a:ext cx="2666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68544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CONCLUSÃ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ravés do trabalho realizado torna-se possível para os alunos fazer relações com a realidade, através dos modelos criados, que lhes permitirão uma visão crítica do assun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 modelo do transporte poderá ser utilizado em outras empres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 resumo, a modelagem matemática pode ser no futuro um método de importância relevante, em se tratando de ensino de matemátic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Garamond"/>
              </a:rPr>
              <a:t>INTRODU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Relacionar o tema com a realidade criando significados relevante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O xis como instrumento de estudo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Margem de lucro do comerciante e transporte dos produt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Conteúdos de Matemática desenvolvidos através do estudo deste tem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Garamond"/>
              </a:rPr>
              <a:t>DESENVOLVIMENT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Etapas do trabal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Modelos dos gastos com transport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Tabelas de coleta de dado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Modelo para o cálculo de lucro de cada xis das duas lanchonetes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Garamond"/>
                <a:ea typeface="Times New Roman"/>
              </a:rPr>
              <a:t>I-</a:t>
            </a:r>
            <a:r>
              <a:rPr b="1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3600" spc="-1" strike="noStrike">
                <a:solidFill>
                  <a:srgbClr val="000000"/>
                </a:solidFill>
                <a:latin typeface="Garamond"/>
                <a:ea typeface="Times New Roman"/>
              </a:rPr>
              <a:t>Modelos sobre Gastos com Transporte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GASOLI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Obs: Para encontrar a quilometragem mensal multiplica-se por 30 d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25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pt-BR" sz="3200" spc="-1" strike="noStrike">
                <a:solidFill>
                  <a:srgbClr val="000000"/>
                </a:solidFill>
                <a:latin typeface="Garamond"/>
                <a:ea typeface="Times New Roman"/>
              </a:rPr>
              <a:t> 30 = 750 km/mê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666880" y="2514600"/>
                <a:ext cx="12193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447920" y="3505320"/>
                <a:ext cx="57150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 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  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 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Km/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90920" y="5791320"/>
            <a:ext cx="12952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Garamond"/>
              </a:rPr>
              <a:t>DESPESA COM GASOLINA ( D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Garamond"/>
              </a:rPr>
              <a:t>g </a:t>
            </a:r>
            <a:r>
              <a:rPr b="1" lang="pt-BR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C = Consumo por quilômetro (km/l), moto 125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Garamond"/>
              </a:rPr>
              <a:t>g </a:t>
            </a: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=  Despesa com gasolina (R$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P = Preço da gasolina (R$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Para calcular o consumo, aplica-se regra de trê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distância( km )               gasolina( l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               </a:t>
            </a: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25                              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               </a:t>
            </a: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2.x                             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C = 2. 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Considerando 30 dias, basta multiplicar o valor de consumo por 30, logo: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                            </a:t>
            </a:r>
            <a:r>
              <a:rPr b="1" lang="pt-BR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Garamond"/>
              </a:rPr>
              <a:t>g </a:t>
            </a:r>
            <a:r>
              <a:rPr b="1" lang="pt-BR" sz="2400" spc="-1" strike="noStrike">
                <a:solidFill>
                  <a:srgbClr val="000000"/>
                </a:solidFill>
                <a:latin typeface="Garamond"/>
              </a:rPr>
              <a:t>= C.P</a:t>
            </a: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r>
              <a:rPr b="1" lang="pt-BR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Garamond"/>
              </a:rPr>
              <a:t>g </a:t>
            </a:r>
            <a:r>
              <a:rPr b="1" lang="pt-BR" sz="2400" spc="-1" strike="noStrike">
                <a:solidFill>
                  <a:srgbClr val="000000"/>
                </a:solidFill>
                <a:latin typeface="Garamond"/>
              </a:rPr>
              <a:t>= R$ 103,20 por mês</a:t>
            </a: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6019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Garamond"/>
              </a:rPr>
              <a:t>DESGASTE DA MOTO ( D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Garamond"/>
              </a:rPr>
              <a:t>m </a:t>
            </a:r>
            <a:r>
              <a:rPr b="1" lang="pt-BR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Garamond"/>
              </a:rPr>
              <a:t>Pneu:</a:t>
            </a: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km                            R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              </a:t>
            </a: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7000                           4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               </a:t>
            </a: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750                            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P =R$ 5,14                 </a:t>
            </a:r>
            <a:r>
              <a:rPr b="1" lang="pt-BR" sz="2400" spc="-1" strike="noStrike">
                <a:solidFill>
                  <a:srgbClr val="000000"/>
                </a:solidFill>
                <a:latin typeface="Garamond"/>
              </a:rPr>
              <a:t>P = R$ 10,28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Garamond"/>
              </a:rPr>
              <a:t>Oficina (O</a:t>
            </a:r>
            <a:r>
              <a:rPr b="1" lang="pt-BR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1" lang="pt-BR" sz="2400" spc="-1" strike="noStrike">
                <a:solidFill>
                  <a:srgbClr val="000000"/>
                </a:solidFill>
                <a:latin typeface="Garamond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custo das revisões(R$)             km rod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Garamond"/>
              </a:rPr>
              <a:t>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45                                       3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Garamond"/>
              </a:rPr>
              <a:t>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O                                        7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1" lang="pt-BR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1" lang="pt-BR" sz="2400" spc="-1" strike="noStrike">
                <a:solidFill>
                  <a:srgbClr val="000000"/>
                </a:solidFill>
                <a:latin typeface="Garamond"/>
              </a:rPr>
              <a:t> = R$ 11,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373392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76720" y="2819520"/>
            <a:ext cx="19810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Garamond"/>
              </a:rPr>
              <a:t>Portanto, para calcular o desgaste da moto ( D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Garamond"/>
              </a:rPr>
              <a:t>m </a:t>
            </a:r>
            <a:r>
              <a:rPr b="0" lang="pt-BR" sz="2800" spc="-1" strike="noStrike">
                <a:solidFill>
                  <a:srgbClr val="000000"/>
                </a:solidFill>
                <a:latin typeface="Garamond"/>
              </a:rPr>
              <a:t>), usa-se o seguinte mode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aramond"/>
              </a:rPr>
              <a:t>                                </a:t>
            </a:r>
            <a:r>
              <a:rPr b="1" lang="pt-BR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Garamond"/>
              </a:rPr>
              <a:t>m </a:t>
            </a:r>
            <a:r>
              <a:rPr b="1" lang="pt-BR" sz="2400" spc="-1" strike="noStrike">
                <a:solidFill>
                  <a:srgbClr val="000000"/>
                </a:solidFill>
                <a:latin typeface="Garamond"/>
              </a:rPr>
              <a:t>= P + O</a:t>
            </a:r>
            <a:r>
              <a:rPr b="1" lang="pt-BR" sz="2000" spc="-1" strike="noStrike">
                <a:solidFill>
                  <a:srgbClr val="000000"/>
                </a:solidFill>
                <a:latin typeface="Garamond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baseline="-25000">
                <a:solidFill>
                  <a:srgbClr val="000000"/>
                </a:solidFill>
                <a:latin typeface="Garamond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Garamond"/>
              </a:rPr>
              <a:t>m  </a:t>
            </a: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= Desgaste da mo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P = Gasto com pneu no mê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pt-BR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 = Gasto com oficinas no mê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1" lang="pt-BR" sz="2800" spc="-1" strike="noStrike">
                <a:solidFill>
                  <a:srgbClr val="000000"/>
                </a:solidFill>
                <a:latin typeface="Garamond"/>
              </a:rPr>
              <a:t> = R$ 21,5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09680" y="4343400"/>
            <a:ext cx="32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Garamond"/>
              </a:rPr>
              <a:t>SALÁRIO DO ENTREGADOR + ENCARGOS SOCIAIS   ( S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Garamond"/>
              </a:rPr>
              <a:t>e </a:t>
            </a:r>
            <a:r>
              <a:rPr b="1" lang="pt-BR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Garamond"/>
              </a:rPr>
              <a:t>e </a:t>
            </a: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= ( R$ 180,00 + R$ 45,00 de encargo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Garamond"/>
              </a:rPr>
              <a:t>e </a:t>
            </a:r>
            <a:r>
              <a:rPr b="1" lang="pt-BR" sz="2400" spc="-1" strike="noStrike">
                <a:solidFill>
                  <a:srgbClr val="000000"/>
                </a:solidFill>
                <a:latin typeface="Garamond"/>
              </a:rPr>
              <a:t>= R$ 225,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aramond"/>
              </a:rPr>
              <a:t>O total de gastos com transporte no mês é 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aramond"/>
              </a:rPr>
              <a:t>                  </a:t>
            </a:r>
            <a:r>
              <a:rPr b="1" lang="pt-BR" sz="3200" spc="-1" strike="noStrike">
                <a:solidFill>
                  <a:srgbClr val="000000"/>
                </a:solidFill>
                <a:latin typeface="Garamond"/>
              </a:rPr>
              <a:t>T = D</a:t>
            </a:r>
            <a:r>
              <a:rPr b="1" lang="pt-BR" sz="3200" spc="-1" strike="noStrike" baseline="-25000">
                <a:solidFill>
                  <a:srgbClr val="000000"/>
                </a:solidFill>
                <a:latin typeface="Garamond"/>
              </a:rPr>
              <a:t>g </a:t>
            </a:r>
            <a:r>
              <a:rPr b="1" lang="pt-BR" sz="3200" spc="-1" strike="noStrike">
                <a:solidFill>
                  <a:srgbClr val="000000"/>
                </a:solidFill>
                <a:latin typeface="Garamond"/>
              </a:rPr>
              <a:t>+ D</a:t>
            </a:r>
            <a:r>
              <a:rPr b="1" lang="pt-BR" sz="3200" spc="-1" strike="noStrike" baseline="-25000">
                <a:solidFill>
                  <a:srgbClr val="000000"/>
                </a:solidFill>
                <a:latin typeface="Garamond"/>
              </a:rPr>
              <a:t>m </a:t>
            </a:r>
            <a:r>
              <a:rPr b="1" lang="pt-BR" sz="3200" spc="-1" strike="noStrike">
                <a:solidFill>
                  <a:srgbClr val="000000"/>
                </a:solidFill>
                <a:latin typeface="Garamond"/>
              </a:rPr>
              <a:t>+ </a:t>
            </a:r>
            <a:r>
              <a:rPr b="1" lang="pt-BR" sz="2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Garamond"/>
              </a:rPr>
              <a:t>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Garamond"/>
              </a:rPr>
              <a:t>T = R$ 349,73                     T </a:t>
            </a:r>
            <a:r>
              <a:rPr b="0" lang="pt-BR" sz="2400" spc="-1" strike="noStrike">
                <a:solidFill>
                  <a:srgbClr val="000000"/>
                </a:solidFill>
                <a:latin typeface="Garamond"/>
              </a:rPr>
              <a:t>= transpor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55627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II</a:t>
            </a:r>
            <a:r>
              <a:rPr b="1" lang="pt-BR" sz="3200" spc="-1" strike="noStrike">
                <a:solidFill>
                  <a:srgbClr val="000000"/>
                </a:solidFill>
                <a:latin typeface="Garamond"/>
                <a:ea typeface="Arial"/>
              </a:rPr>
              <a:t>-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Garamond"/>
                <a:ea typeface="Arial"/>
              </a:rPr>
              <a:t>Tabelas de Coleta de Dados:</a:t>
            </a:r>
            <a:r>
              <a:rPr b="0" lang="pt-BR" sz="3200" spc="-1" strike="noStrike">
                <a:solidFill>
                  <a:srgbClr val="000000"/>
                </a:solidFill>
                <a:latin typeface="Garamond"/>
                <a:ea typeface="Arial"/>
              </a:rPr>
              <a:t> </a:t>
            </a:r>
            <a:br>
              <a:rPr sz="3200"/>
            </a:br>
            <a:r>
              <a:rPr b="0" lang="pt-BR" sz="3200" spc="-1" strike="noStrike">
                <a:solidFill>
                  <a:srgbClr val="808000"/>
                </a:solidFill>
                <a:latin typeface="Garamond"/>
                <a:ea typeface="Times New Roman"/>
              </a:rPr>
              <a:t>Tabela 1</a:t>
            </a:r>
            <a:r>
              <a:rPr b="1" lang="pt-BR" sz="3200" spc="-1" strike="noStrike">
                <a:solidFill>
                  <a:srgbClr val="808000"/>
                </a:solidFill>
                <a:latin typeface="Garamond"/>
                <a:ea typeface="Times New Roman"/>
              </a:rPr>
              <a:t>: Relação dos custos de 3 lanches(xis)                    em 2</a:t>
            </a:r>
            <a:r>
              <a:rPr b="0" lang="pt-BR" sz="32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 </a:t>
            </a:r>
            <a:r>
              <a:rPr b="1" lang="pt-BR" sz="3200" spc="-1" strike="noStrike">
                <a:solidFill>
                  <a:srgbClr val="808000"/>
                </a:solidFill>
                <a:latin typeface="Garamond"/>
                <a:ea typeface="Times New Roman"/>
              </a:rPr>
              <a:t>Lanchonetes da cidade de </a:t>
            </a:r>
            <a:r>
              <a:rPr b="1" lang="pt-BR" sz="2800" spc="-1" strike="noStrike">
                <a:solidFill>
                  <a:srgbClr val="808000"/>
                </a:solidFill>
                <a:latin typeface="Garamond"/>
                <a:ea typeface="Times New Roman"/>
              </a:rPr>
              <a:t>Ijuí-R</a:t>
            </a:r>
            <a:r>
              <a:rPr b="1" lang="en-US" sz="2800" spc="-1" strike="noStrike">
                <a:solidFill>
                  <a:srgbClr val="808000"/>
                </a:solidFill>
                <a:latin typeface="Garamond"/>
                <a:ea typeface="Times New Roman"/>
              </a:rPr>
              <a:t>S</a:t>
            </a:r>
            <a:r>
              <a:rPr b="0" lang="pt-BR" sz="32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828800"/>
          <a:ext cx="81788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1788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17:43:40Z</dcterms:created>
  <dc:creator>Odorico Antonio Bortoluzzi</dc:creator>
  <dc:description/>
  <dc:language>en-US</dc:language>
  <cp:lastModifiedBy>,.</cp:lastModifiedBy>
  <dcterms:modified xsi:type="dcterms:W3CDTF">2002-09-25T12:49:29Z</dcterms:modified>
  <cp:revision>9</cp:revision>
  <dc:subject/>
  <dc:title>O “XIS BURGUER” COMO OBJETO DE ESTUDO PARA MODELAGEM MATEMÁTICA </dc:title>
</cp:coreProperties>
</file>