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A87B-705E-4FF4-AF3A-CB749F807B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652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90720" y="2438280"/>
          <a:ext cx="54878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54878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D1D-F6EA-4CB8-A4E7-4DB081BC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D67-B0D4-4D54-B8AE-A19D5834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CB1-32B9-4C90-85DA-543EEB59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286-3B1C-4072-B4DF-34F3D170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BD25-CCEE-4352-AFD8-21F737E5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F85B-DF01-4D3B-8F3E-8B3AF80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4903-EFB6-4162-9F30-FE2FF847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32E1-222D-4FF8-A52F-4788CB45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01C6-D38E-429A-984C-2C762412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539F-8D30-4B7C-8C4E-E64B9BCD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11B3-87D6-468F-AF89-70F6AFFF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22E-1910-4769-8496-067F9EE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7C30-5B8A-4E6A-8BE5-50EEB672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6C0C-13A5-4ACA-BBE3-A1ECA4E0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0494-8C8F-491E-A480-FBB3BC7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79CA-9961-45F2-919A-FCE1A8AC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372D-A14C-4EBC-97DC-FBFB019C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6E9-0C32-41DD-A362-C08E1056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2E7-B200-4371-82C3-835DA1EB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23E-491D-405B-9CA0-F4723F51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614-28C5-485E-B759-CDDE6221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CEA-A809-48FD-952D-15307EF7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98E-041D-4C36-81D9-605D5E9A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00E-2313-401A-95BD-1A02D7E3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358-EAFC-47F0-9EC5-4E84E3AE9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F501-78CF-46B5-A1B7-99652A510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345960"/>
            <a:ext cx="8915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NIJUI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F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II ER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contro Regional de Educação Mate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UBAGEM DE MADEI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riana Mo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anice  Malda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dmara Blasz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balho elaborado na disciplina de Modelagem Matematic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f. Pedro Augusto Bo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juí, RS, setembro de 200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-1432080"/>
            <a:ext cx="746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109-8287-4429-A108-D95A7A6E4309}" type="slidenum">
              <a:t>1</a:t>
            </a:fld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805320"/>
            <a:ext cx="7467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Continuação do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BLEMA 2</a:t>
            </a:r>
            <a:br>
              <a:rPr sz="2800"/>
            </a:b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tindo das fórmulas do volume do cilindro médio e do tronco de co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pois de algumas operações algébricas elementares, conclui-se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 seja, o volume do cilindro méd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difer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volume do tronco de cone, mesmo 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jam idênticos para os dois sól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6680" y="2514600"/>
                <a:ext cx="64929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cm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    e    Vt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3880" y="4114800"/>
                <a:ext cx="45720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94E-1E61-47E1-AF00-C864934F63A3}" type="slidenum">
              <a:t>10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PROBLEMA DA DIVISÃO DA TOR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irmação do madeirei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a medição da madeira após o corte das toras 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 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o invé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 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facilita o carregamento e també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ona ao vendedor um maior rendimento em termos de volum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Pois se efetuasse o cálculo, pelo seu método, com as toras inteiras obteria um volume  me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cação dessa afirm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tuando-se então, a cubagem da mesma tora anterior, porém agora dividida ao meio, foram obtidos os seguintes resul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BA9-1F36-4B70-A203-6B1BC8702632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Cont. Problema da divisão da tor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2560" y="1981080"/>
            <a:ext cx="6635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693-F974-4971-A1A2-8CDA22D1E55D}" type="slidenum">
              <a:t>12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129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Cont. Problema da divisão da tor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sultados encontrados pelo método do madeireiro, com a tora inte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</a:rPr>
              <a:t>V= 0,43892 m</a:t>
            </a:r>
            <a:r>
              <a:rPr b="1" i="1" lang="pt-BR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tora intei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sultados encontrados pelo método madeireiro, com a tora dividi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</a:rPr>
              <a:t>V=0,448236 m</a:t>
            </a:r>
            <a:r>
              <a:rPr b="1" i="1" lang="pt-BR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pt-BR" sz="2000" spc="-1" strike="noStrike" baseline="30000">
                <a:solidFill>
                  <a:srgbClr val="ff0000"/>
                </a:solidFill>
                <a:latin typeface="Times New Roman"/>
              </a:rPr>
              <a:t>.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ora dividida)   </a:t>
            </a:r>
            <a:r>
              <a:rPr b="1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!!!!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zendo o cálculo do volume da tora dividida pelo método do tronco de cone, tem-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= 0,625880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pt-BR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ora inteir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</a:rPr>
              <a:t>V = 0,638048 m</a:t>
            </a:r>
            <a:r>
              <a:rPr b="1" i="1" lang="pt-BR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ora dividid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!!!!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as diferenças são pequenas, poderiam ter sido ocasionadas pelos  erros de aproximação cometidos durante os cálcu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irar essas dúvidas, foi feita a seguinte demonstr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631-FACF-49A0-850D-3E10A40F8B87}" type="slidenum">
              <a:t>13</a:t>
            </a:fld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421020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Cont. Problema da divisão da tora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ípio de conservação do vol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oma do volume de cada parte de altura h/2, corresponde ao volume total da tora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=    V1   +  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indo Rm pela fórmula do de Raio Médio e fazendo as devidas simplificações algébricas, obtém-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5800" y="3962520"/>
                <a:ext cx="6659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Rm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m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363680" y="5791320"/>
                <a:ext cx="48178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810-9CEE-4698-821F-B4EDFA0244E3}" type="slidenum">
              <a:t>14</a:t>
            </a:fld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ÃO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fórmulas de cubagem de madeira usadas nas transações comerciais são aproximações razoáveis das fórmulas matemát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 modelo do tronco de cone é o mais indicado para a cubagem de madeira, porque é o sólido geométrico mais próximo da forma de um tronco de árvo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hipótese de que a soma dos volumes das partes não é igual ao volume da tora inteira fere o princípio de conservação de volume, conforme foi demonstr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aplicada em aula, a modelagem matemática pode contribuir para uma 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dizagem mais significativa e contextualizada dos conteú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AFB-4D7A-457B-AD7B-38008BBDBBD9}" type="slidenum">
              <a:t>15</a:t>
            </a:fld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533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44792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mportância do tem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ara os madeireir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ara agricultores que vendem/compram madei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ara os alunos do ensino fundamental e mé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neira de explorar o tem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esquisa bibliográf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visitas e entrevistas com madeireir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medições de toras de madei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ópicos e procedimentos de matemática utiliza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Geometria Euclidiana Plana e Espaci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ropriedades das equações algébric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Demonstração de propr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0A9-B19F-499D-96FB-590BEF2F94DB}" type="slidenum">
              <a:t>2</a:t>
            </a:fld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78720"/>
            <a:ext cx="746748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O MEDIR OS DIÂMETROS DO               TRONCO DE UMA ÁRVORE? </a:t>
            </a:r>
            <a:br>
              <a:rPr sz="2800"/>
            </a:b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étodos de med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edição da circunferência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= C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aquímetro  adapt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4124160" cy="18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96B-CEE6-40C4-B9BB-359FF2F344C6}" type="slidenum">
              <a:t>3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304920"/>
            <a:ext cx="74674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EDIDAS PARA O CÁLCULO DO VOLUME DO TRONCO DE UMA ÁRVOR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057400"/>
            <a:ext cx="7620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92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1788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âmetros inferior, médio e superior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di, dm e ds 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tura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4314960" cy="225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A9C-9016-4AC2-9E27-A32500B0ADC9}" type="slidenum">
              <a:t>4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371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ROBLEMA 1: </a:t>
            </a:r>
            <a:br>
              <a:rPr sz="3200"/>
            </a:br>
            <a:r>
              <a:rPr b="0" lang="en-US" sz="2400" spc="-1" strike="noStrike">
                <a:solidFill>
                  <a:srgbClr val="003300"/>
                </a:solidFill>
                <a:latin typeface="Arial Black"/>
              </a:rPr>
              <a:t>COMO CALCULAR O VOLUME DO TRONCO DE UMA ÁRVORE 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DO MADEIR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ção da tora em um paralelepípe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ideração das perdas num total de 25% o qual é descontado do valor do diâmetro  médio da tora que passa a ser largura e altura do paralelepípe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Diâmetro médio 0,51 m – 25% = 0,3825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o madeirei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(D . 0,75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=0,43892 m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 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162400" cy="119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A67-ACB4-4E1D-A668-8B84CB7541F6}" type="slidenum">
              <a:t>5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1296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08040" y="117360"/>
            <a:ext cx="763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80640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MODELO DO ENGENHEIRO FLORESTAL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sse modelo, assim como no anterior, a tora é transformada em um paralelepípe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étodo: divisão da circunferência média em 4 partes que passarão a ser largura e altura da secção transversal quadrada da tora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o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genheiro florest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= (c / 4 )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L 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= 0,48 m</a:t>
            </a:r>
            <a:r>
              <a:rPr b="1" i="1" lang="pt-BR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434340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85B-1569-46E0-A9AE-E26BF139433A}" type="slidenum">
              <a:t>6</a:t>
            </a:fld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4360" y="1946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32080" y="2666880"/>
            <a:ext cx="771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12960" y="194616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60680" y="33940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89280" y="33940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0952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MODELO DO CILINDRO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ção do tronco de madeira em um cilindro cujo diâmetro é o diâmetro médio do tronc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 determinar o volume de um cilindro multiplica-se a área da base pelo comp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do cilindr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h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= 0,7388 m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77040" y="3657600"/>
            <a:ext cx="190332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CA0-880C-4DDF-BDCC-73986A75BECA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MODELO DO TRONCO DE CON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ra de madeira tem a forma de um tronco de c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modelo, comparado ao modelo do cilindro, usa as medidas do tronco diretamente. Não é feita nenhuma  mé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o do tronco de c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 = 0,638048 m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45120" y="3505320"/>
            <a:ext cx="17143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62120" y="4495680"/>
                <a:ext cx="23619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B8C-D812-4339-9CA7-36C6B89625B6}" type="slidenum">
              <a:t>8</a:t>
            </a:fld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34640"/>
            <a:ext cx="74674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2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VOLUME DE UM TRONCO DE CO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 SER CALCULADO COMO UM CILINDRO MÉDIO 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lume do cilindro médio        Volume do tronco do c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cm=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 Rm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 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é o raio médio (ou média dos raios inferior e superior do tronco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m = (r +R)/2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onstrado faci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 o uso do Teorema de T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048200" y="2590920"/>
                <a:ext cx="2550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t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1984320" cy="28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491-2504-4366-8E74-BD5173B35642}" type="slidenum">
              <a:t>9</a:t>
            </a:fld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21:41:20Z</dcterms:created>
  <dc:creator>alunos</dc:creator>
  <dc:description/>
  <dc:language>en-US</dc:language>
  <cp:lastModifiedBy>,.</cp:lastModifiedBy>
  <dcterms:modified xsi:type="dcterms:W3CDTF">2002-09-10T23:49:51Z</dcterms:modified>
  <cp:revision>28</cp:revision>
  <dc:subject/>
  <dc:title>Apresentação do PowerPoint</dc:title>
</cp:coreProperties>
</file>