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E7C-969E-4EC1-ADD1-977A7510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FFF-A44C-42EB-8CA6-B6AE456B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47F-ADE8-4A26-BCEF-ECE7954F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3EA-F1DA-4A04-925F-B5B44098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5F1F-6467-417E-9D1D-7EFF1F90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88CD-97BC-41ED-B25B-8353A3AF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EEEA-7B81-4919-AB38-555B182B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B1FE-F2FF-4A5C-A523-4123DEBF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F28D-8812-47F7-9A3F-9CF29EF6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F757-D30E-4756-8637-D71E6CFE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BA3F-5CC1-4ECF-98F7-862E0373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9E87-0575-448B-A2EE-567798B7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B489-3235-4C72-9E97-FA4947C0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3DC9-1958-4B58-A710-8E21DA3D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E2D1-06D2-40B2-8962-D41F5B14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FABC-8629-4C36-8F25-C681AFF8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F4BD-2E60-4413-B430-478E16B3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8F75-7BB8-4ACE-A963-1ABA2EEB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ABE-4788-4EC1-AA14-58C81834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98E-3E07-4BD2-88E4-3CBE6098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429-884D-4995-B9D4-C19836F2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63F-4157-4C2C-9277-0C8AA2A4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3AFA-D564-47A3-A72E-379A475D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618-BF07-478A-AAE1-55C732E4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FAFB-66CC-4BC4-B5B1-0774A37BA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88520"/>
            <a:ext cx="62481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7247-A92E-4FA7-BB16-2BF551A89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ODELAGE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Arial"/>
              </a:rPr>
              <a:t>MATEMÁTIC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. Pedro Augusto Bor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quação da velocidade linear da biciclet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ndo as três equações de uma maneira mais geral obte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743200" y="2922480"/>
                <a:ext cx="300996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R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28600" y="4876920"/>
            <a:ext cx="7543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.:  Neste modelo, consideramos o período de cada pedalada como constante de 5 segundos.  Nestas circunstancias 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 o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ão constantes, tendo apenas o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o variá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Visualização gráfic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20800" y="1981080"/>
          <a:ext cx="6581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1981080"/>
                    <a:ext cx="6581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Velocidade em função de duas variáve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2666520"/>
            <a:ext cx="2971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ção da velocidade com o raio da catraca e o período da pedalada em função da me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124080" y="2057400"/>
          <a:ext cx="4648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057400"/>
                    <a:ext cx="4648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80880" y="4114800"/>
                <a:ext cx="23241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ONCLUSÃ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i proposto um modelo matemático para descrever a relação entre a velocidade de uma bicicleta em função dos diferentes raios das catracas das marchas mantendo o mesmo período para as pedalad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am elaborados gráficos que expressam as diferentes velocidades de acordo com as combinações de catrac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am relacionamos conceitos de Matemática escolar como:  razões e proporções, álgebra, funções, circunferência e unidades de med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mos uma interdisciplinaridade no ambiente escolar com a Física, nos conteúdos de Mecânica, como:  mecanismos de transmissão, velocidades,  movimento cir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292040"/>
            <a:ext cx="62481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ISTEMA DE TRANSMISSÃO DE UMA BICICLET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80880" y="464796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an Lucas da Si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ane Inês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via Maria Duarte Schia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ntroduçã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pedal, ao ser acionado, faz girar uma roda dentada, e o movimento de rotação produzida nesta roda é transmitido, através da correia, a uma outra roda dentada adaptada ao eixo da roda traseira da bicicle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86200" y="2886120"/>
            <a:ext cx="38862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ntroduçã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seqüentemente o ciclista, ao pedalar com uma determinada freqüência, consegue imprimir uma freqüência bem maior a roda dentada menor, e também as rodas da bicicle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 Evidentemente um aumento da velocidade de rotação da roda dentada traseira implica em maior velocidade e maior deslocamento da bicicle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9880" y="2843280"/>
            <a:ext cx="39625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683280"/>
            <a:ext cx="746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Problematização da bicicleta de 6 marcha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457200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 de transmissão por engrenage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 de transmissão por correi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ção das velocidades nas diferentes combinações de catra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25780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oleta de dado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manho dos rai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neu: R = 30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dal: R = 20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tora: R = 10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vidas: R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2 cm., R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3 cm.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4 cm., R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5 cm., R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6 cm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7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onceitos físicos de apoi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36520" y="2608200"/>
          <a:ext cx="7524720" cy="28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520" y="2608200"/>
                    <a:ext cx="752472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Resultados Obtido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3309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09480" y="2514600"/>
                <a:ext cx="4267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3520" y="4191120"/>
                <a:ext cx="37335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533520" y="1905120"/>
            <a:ext cx="6095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ação do período da R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505320"/>
            <a:ext cx="65534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locidade angular da R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4343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d/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0292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locidade da bicicleta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5764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433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14600" y="5562720"/>
                <a:ext cx="15717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30524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09480" y="5486400"/>
                <a:ext cx="13716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1148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odelo Matemático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38120" y="2209680"/>
                <a:ext cx="155268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562720" y="2209680"/>
                <a:ext cx="16002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533520" y="4952880"/>
            <a:ext cx="70866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razão raio pelo período determinamos a velocidade angular da movida que é igual a do aro.  Logo podemos substituí-la na relação entre velocidade angular e escalar, obtendo a velocidade da bicicl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468600" y="3903840"/>
                <a:ext cx="22464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17:07:52Z</dcterms:created>
  <dc:creator>def</dc:creator>
  <dc:description/>
  <dc:language>en-US</dc:language>
  <cp:lastModifiedBy>,.</cp:lastModifiedBy>
  <dcterms:modified xsi:type="dcterms:W3CDTF">2002-09-25T12:53:38Z</dcterms:modified>
  <cp:revision>9</cp:revision>
  <dc:subject/>
  <dc:title>MODELAGEM</dc:title>
</cp:coreProperties>
</file>